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31.wmf" ContentType="image/x-wmf"/>
  <Override PartName="/ppt/media/image128.wmf" ContentType="image/x-wmf"/>
  <Override PartName="/ppt/media/image9.jpeg" ContentType="image/jpeg"/>
  <Override PartName="/ppt/media/image109.wmf" ContentType="image/x-wmf"/>
  <Override PartName="/ppt/media/image12.wmf" ContentType="image/x-wmf"/>
  <Override PartName="/ppt/media/image70.wmf" ContentType="image/x-wmf"/>
  <Override PartName="/ppt/media/image25.wmf" ContentType="image/x-wmf"/>
  <Override PartName="/ppt/media/image14.wmf" ContentType="image/x-wmf"/>
  <Override PartName="/ppt/media/image32.wmf" ContentType="image/x-wmf"/>
  <Override PartName="/ppt/media/image129.wmf" ContentType="image/x-wmf"/>
  <Override PartName="/ppt/media/image26.wmf" ContentType="image/x-wmf"/>
  <Override PartName="/ppt/media/image23.wmf" ContentType="image/x-wmf"/>
  <Override PartName="/ppt/media/image91.wmf" ContentType="image/x-wmf"/>
  <Override PartName="/ppt/media/image15.wmf" ContentType="image/x-wmf"/>
  <Override PartName="/ppt/media/image33.wmf" ContentType="image/x-wmf"/>
  <Override PartName="/ppt/media/image16.wmf" ContentType="image/x-wmf"/>
  <Override PartName="/ppt/media/image34.wmf" ContentType="image/x-wmf"/>
  <Override PartName="/ppt/media/image77.png" ContentType="image/png"/>
  <Override PartName="/ppt/media/image17.wmf" ContentType="image/x-wmf"/>
  <Override PartName="/ppt/media/image5.wmf" ContentType="image/x-wmf"/>
  <Override PartName="/ppt/media/image78.png" ContentType="image/png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79.png" ContentType="image/png"/>
  <Override PartName="/ppt/media/image36.wmf" ContentType="image/x-wmf"/>
  <Override PartName="/ppt/media/image11.wmf" ContentType="image/x-wmf"/>
  <Override PartName="/ppt/media/image7.wmf" ContentType="image/x-wmf"/>
  <Override PartName="/ppt/media/image19.wmf" ContentType="image/x-wmf"/>
  <Override PartName="/ppt/media/image37.wmf" ContentType="image/x-wmf"/>
  <Override PartName="/ppt/media/image131.png" ContentType="image/png"/>
  <Override PartName="/ppt/media/image71.wmf" ContentType="image/x-wmf"/>
  <Override PartName="/ppt/media/image51.png" ContentType="image/png"/>
  <Override PartName="/ppt/media/image105.wmf" ContentType="image/x-wmf"/>
  <Override PartName="/ppt/media/image53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93.png" ContentType="image/png"/>
  <Override PartName="/ppt/media/image50.wmf" ContentType="image/x-wmf"/>
  <Override PartName="/ppt/media/image41.wmf" ContentType="image/x-wmf"/>
  <Override PartName="/ppt/media/image84.png" ContentType="image/png"/>
  <Override PartName="/ppt/media/image132.png" ContentType="image/png"/>
  <Override PartName="/ppt/media/image38.wmf" ContentType="image/x-wmf"/>
  <Override PartName="/ppt/media/image133.png" ContentType="image/png"/>
  <Override PartName="/ppt/media/image61.wmf" ContentType="image/x-wmf"/>
  <Override PartName="/ppt/media/image39.png" ContentType="image/png"/>
  <Override PartName="/ppt/media/image40.wmf" ContentType="image/x-wmf"/>
  <Override PartName="/ppt/media/image83.png" ContentType="image/png"/>
  <Override PartName="/ppt/media/image130.wmf" ContentType="image/x-wmf"/>
  <Override PartName="/ppt/media/image108.png" ContentType="image/png"/>
  <Override PartName="/ppt/media/image42.wmf" ContentType="image/x-wmf"/>
  <Override PartName="/ppt/media/image85.png" ContentType="image/png"/>
  <Override PartName="/ppt/media/image127.wmf" ContentType="image/x-wmf"/>
  <Override PartName="/ppt/media/image8.wmf" ContentType="image/x-wmf"/>
  <Override PartName="/ppt/media/image30.wmf" ContentType="image/x-wmf"/>
  <Override PartName="/ppt/media/image13.wmf" ContentType="image/x-wmf"/>
  <Override PartName="/ppt/media/image52.png" ContentType="image/png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43.png" ContentType="image/png"/>
  <Override PartName="/ppt/media/image22.wmf" ContentType="image/x-wmf"/>
  <Override PartName="/ppt/media/image119.wmf" ContentType="image/x-wmf"/>
  <Override PartName="/ppt/media/image60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80.png" ContentType="image/png"/>
  <Override PartName="/ppt/media/image81.png" ContentType="image/png"/>
  <Override PartName="/ppt/media/image82.png" ContentType="image/png"/>
  <Override PartName="/ppt/media/image1.wmf" ContentType="image/x-wmf"/>
  <Override PartName="/ppt/media/image86.png" ContentType="image/png"/>
  <Override PartName="/ppt/media/image2.wmf" ContentType="image/x-wmf"/>
  <Override PartName="/ppt/media/image87.png" ContentType="image/png"/>
  <Override PartName="/ppt/media/image3.wmf" ContentType="image/x-wmf"/>
  <Override PartName="/ppt/media/image88.png" ContentType="image/png"/>
  <Override PartName="/ppt/media/image4.wmf" ContentType="image/x-wmf"/>
  <Override PartName="/ppt/media/image89.png" ContentType="image/png"/>
  <Override PartName="/ppt/media/image90.png" ContentType="image/png"/>
  <Override PartName="/ppt/media/image94.png" ContentType="image/png"/>
  <Override PartName="/ppt/media/image27.wmf" ContentType="image/x-wmf"/>
  <Override PartName="/ppt/media/image95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99.wmf" ContentType="image/x-wmf"/>
  <Override PartName="/ppt/media/image100.wmf" ContentType="image/x-wmf"/>
  <Override PartName="/ppt/media/image101.wmf" ContentType="image/x-wmf"/>
  <Override PartName="/ppt/media/image102.wmf" ContentType="image/x-wmf"/>
  <Override PartName="/ppt/media/image103.wmf" ContentType="image/x-wmf"/>
  <Override PartName="/ppt/media/image104.wmf" ContentType="image/x-wmf"/>
  <Override PartName="/ppt/media/image106.png" ContentType="image/png"/>
  <Override PartName="/ppt/media/image107.png" ContentType="image/png"/>
  <Override PartName="/ppt/media/image44.png" ContentType="image/png"/>
  <Override PartName="/ppt/media/image111.wmf" ContentType="image/x-wmf"/>
  <Override PartName="/ppt/media/image45.png" ContentType="image/png"/>
  <Override PartName="/ppt/media/image112.wmf" ContentType="image/x-wmf"/>
  <Override PartName="/ppt/media/image46.png" ContentType="image/png"/>
  <Override PartName="/ppt/media/image113.wmf" ContentType="image/x-wmf"/>
  <Override PartName="/ppt/media/image114.wmf" ContentType="image/x-wmf"/>
  <Override PartName="/ppt/media/image48.png" ContentType="image/png"/>
  <Override PartName="/ppt/media/image115.wmf" ContentType="image/x-wmf"/>
  <Override PartName="/ppt/media/image49.png" ContentType="image/png"/>
  <Override PartName="/ppt/media/image1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588C-11A9-4DB3-8360-2B6FD009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1E1-1C27-49B7-BD59-290889F9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B89-7AD6-499B-9208-1EB6A21C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0FE-6B3F-4BB2-96AC-3A81BE50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38E-D959-41B3-8352-82D04F97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4206-FC82-4D7A-8AED-D9F1511C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DA0-A646-4BA3-A9E3-B93B7395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6841-173D-4A37-8F3E-FBAAB511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1550-7D22-4AE4-9371-7E915975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EB6-B7D8-4B56-8F8B-CF1D43BE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F96-C306-4C7D-BE71-D34B11A2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DCA-0442-49A2-B8AD-73EDB28B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C13B-F1B2-400B-9E04-4D7C02D9718B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3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8.wmf"/><Relationship Id="rId1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image" Target="../media/image9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92.wmf"/><Relationship Id="rId9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00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99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00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101.wmf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2.wmf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103.wmf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98.wmf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03.wmf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01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04.wmf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105.wmf"/><Relationship Id="rId35" Type="http://schemas.openxmlformats.org/officeDocument/2006/relationships/image" Target="../media/image106.png"/><Relationship Id="rId36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01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11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112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113.wmf"/><Relationship Id="rId19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9.wmf"/><Relationship Id="rId1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0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image" Target="../media/image12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6.wmf"/><Relationship Id="rId9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9.wmf"/><Relationship Id="rId7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0.wmf"/><Relationship Id="rId3" Type="http://schemas.openxmlformats.org/officeDocument/2006/relationships/image" Target="../media/image131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4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Times New Roman"/>
              </a:rPr>
              <a:t>Das Pendel:</a:t>
            </a:r>
            <a:br>
              <a:rPr sz="4400"/>
            </a:br>
            <a:r>
              <a:rPr b="1" lang="de-DE" sz="4400" spc="-1" strike="noStrike">
                <a:solidFill>
                  <a:srgbClr val="ff0000"/>
                </a:solidFill>
                <a:latin typeface="Times New Roman"/>
              </a:rPr>
              <a:t>Simulation und Analy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060560" y="2868480"/>
            <a:ext cx="1193400" cy="2577960"/>
            <a:chOff x="1060560" y="2868480"/>
            <a:chExt cx="1193400" cy="2577960"/>
          </a:xfrm>
        </p:grpSpPr>
        <p:sp>
          <p:nvSpPr>
            <p:cNvPr id="43" name=""/>
            <p:cNvSpPr/>
            <p:nvPr/>
          </p:nvSpPr>
          <p:spPr>
            <a:xfrm>
              <a:off x="2063520" y="2868480"/>
              <a:ext cx="190440" cy="19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275840" y="2957400"/>
              <a:ext cx="875880" cy="226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60560" y="5027400"/>
              <a:ext cx="419040" cy="419040"/>
            </a:xfrm>
            <a:prstGeom prst="ellipse">
              <a:avLst/>
            </a:prstGeom>
            <a:solidFill>
              <a:srgbClr val="00ba00"/>
            </a:solidFill>
            <a:ln w="936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37000" y="2808360"/>
            <a:ext cx="520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Das physikalische Pe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Der 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Reibung </a:t>
            </a:r>
            <a:r>
              <a:rPr b="1" lang="de-DE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gedämpfte Schw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Anharmonizit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Das getriebene Pen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0000ff"/>
                </a:solidFill>
                <a:latin typeface="Times New Roman"/>
              </a:rPr>
              <a:t>Das deterministische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3600" y="5232240"/>
            <a:ext cx="1773360" cy="206640"/>
          </a:xfrm>
          <a:custGeom>
            <a:avLst/>
            <a:gdLst/>
            <a:ahLst/>
            <a:rect l="l" t="t" r="r" b="b"/>
            <a:pathLst>
              <a:path w="1117" h="130">
                <a:moveTo>
                  <a:pt x="0" y="9"/>
                </a:moveTo>
                <a:cubicBezTo>
                  <a:pt x="177" y="69"/>
                  <a:pt x="355" y="130"/>
                  <a:pt x="541" y="129"/>
                </a:cubicBezTo>
                <a:cubicBezTo>
                  <a:pt x="727" y="128"/>
                  <a:pt x="922" y="64"/>
                  <a:pt x="1117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3600" y="2967120"/>
            <a:ext cx="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54360" y="344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80880" y="3819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5120" y="5238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469880" y="1989000"/>
          <a:ext cx="464832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989000"/>
                    <a:ext cx="464832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82560" y="1449360"/>
            <a:ext cx="70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tialgleichung 1. Ordnung aus Energieerhalt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6880" y="282564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ylorreihenentwickl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469880" y="3360600"/>
          <a:ext cx="464832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9880" y="3360600"/>
                    <a:ext cx="464832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86520" y="413532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ch erstem Glied abbrec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444680" y="4678200"/>
          <a:ext cx="607068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4680" y="4678200"/>
                    <a:ext cx="60706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430280" y="5557680"/>
            <a:ext cx="6210360" cy="998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7040" y="83664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ter Versu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01760" y="5527800"/>
            <a:ext cx="6488280" cy="107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38120" y="3433680"/>
            <a:ext cx="82328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reiben Sie ein Programm zur Simulation des Pendels und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ellen Sie die Ergebnisse graphisch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wirkt sich die Wahl des Vorzeichens a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gleichen Sie Ihr Ergebnis mit der Lösung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n Sie hiezu a) den Paramet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) die Anfangsbedingung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chnen Sie Phasenraumtrajektorien für mehrer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24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6320" y="2417760"/>
            <a:ext cx="68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hlende Zutat: Wahl der Anfangsbedingung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6311880" y="4900680"/>
          <a:ext cx="24638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1880" y="4900680"/>
                    <a:ext cx="2463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714680" y="1084320"/>
          <a:ext cx="5486400" cy="93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4680" y="1084320"/>
                    <a:ext cx="548640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6680" y="1471680"/>
            <a:ext cx="73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duktion der Ordnung der Differentialgleichung auf ein System von Differentialgleichungen 1. Ord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711440" y="3589200"/>
          <a:ext cx="5638680" cy="14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1440" y="3589200"/>
                    <a:ext cx="563868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773280" y="301788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e einen „Variablenvekto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7600" y="242712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 Pen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025800" y="2436840"/>
          <a:ext cx="40132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2436840"/>
                    <a:ext cx="40132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667400" y="3602160"/>
            <a:ext cx="2754000" cy="14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067360" y="5084640"/>
            <a:ext cx="1082520" cy="66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36280" y="5710320"/>
            <a:ext cx="517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nomes Syste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rechte Seite enthält keine Zeitablei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5520" y="882720"/>
            <a:ext cx="50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tialgleichung höherer Ord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62400" y="5958000"/>
            <a:ext cx="7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443400" y="5965920"/>
          <a:ext cx="368280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3400" y="5965920"/>
                    <a:ext cx="3682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1573200" y="2216160"/>
          <a:ext cx="680724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3200" y="2216160"/>
                    <a:ext cx="680724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83720" y="16812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ylorreihenentwickl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6680" y="1136520"/>
            <a:ext cx="63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en der Differentialgleichungen 1. Ordn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2801880" y="3400560"/>
          <a:ext cx="203364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1880" y="3400560"/>
                    <a:ext cx="2033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1194840" y="33415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(z.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5280120"/>
            <a:ext cx="69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achste Lösung: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Euler- oder Polygonzug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309600" y="806400"/>
          <a:ext cx="858528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806400"/>
                    <a:ext cx="858528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304200" y="317520"/>
            <a:ext cx="29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 Pendel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06360" y="3259080"/>
            <a:ext cx="823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n Sie das Programm der letzten Woche, sodaß es da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bige DG-System löst und stellen Sie die Ergebnisse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gleichen Sie Ihr Ergebnis mit der Lösung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ändern Sie hiezu a) den Paramete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) die Anfangsbedingunge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0),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e sieht es mit der Energieerhaltung aus? Überlegen Sie sich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 Kriterium für die Wahl vo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as die Energieerhal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ng für eine gewünschte Genauigkeit gewährleis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7800" y="2305080"/>
            <a:ext cx="6630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tzte Zutat: Wahl der Anfangsbedingungen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2. Ordnung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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hl vo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200640" y="4354560"/>
          <a:ext cx="24638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0640" y="4354560"/>
                    <a:ext cx="2463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4614840" y="719280"/>
            <a:ext cx="4379760" cy="16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771480" y="3456000"/>
          <a:ext cx="7442280" cy="78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3456000"/>
                    <a:ext cx="74422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672120" y="28306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unge-Kutta-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176560" y="1119240"/>
          <a:ext cx="454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6560" y="1119240"/>
                    <a:ext cx="454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807000" y="1496880"/>
            <a:ext cx="438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60840" y="18288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vtl. veränder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9240" y="10922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geme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 flipV="1">
            <a:off x="4957560" y="1477440"/>
            <a:ext cx="1161720" cy="47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47040" y="1927080"/>
            <a:ext cx="12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setzt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819440" y="4435560"/>
          <a:ext cx="294624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19440" y="4435560"/>
                    <a:ext cx="29462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876920" y="4232160"/>
          <a:ext cx="2921040" cy="132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4232160"/>
                    <a:ext cx="292104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1069920" y="43894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"/>
          <p:cNvGraphicFramePr/>
          <p:nvPr/>
        </p:nvGraphicFramePr>
        <p:xfrm>
          <a:off x="2233440" y="3049560"/>
          <a:ext cx="18799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3440" y="3049560"/>
                    <a:ext cx="1879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1139760" y="895320"/>
            <a:ext cx="65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rittweitenanpassung im Runge-Kutta-Verfahr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den Schritt doppelt rech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203560" y="1886040"/>
          <a:ext cx="436860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3560" y="1886040"/>
                    <a:ext cx="43686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2160" y="3022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ding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036680" y="3360600"/>
            <a:ext cx="546120" cy="41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91800" y="37227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ählte Genau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4319640"/>
            <a:ext cx="50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dingung nicht erfüllt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erklein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4120" y="4924440"/>
            <a:ext cx="71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tes (?) Runge-Kutta-Verfahren (5. Ordnu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619360" y="5489640"/>
          <a:ext cx="37591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19360" y="5489640"/>
                    <a:ext cx="37591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126720" y="6246720"/>
            <a:ext cx="88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Höhere Ordnung ist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ich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gleichzusetzen mit höherer Genauigke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299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04640" y="155520"/>
            <a:ext cx="82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num. Lösung von Differentialgleichu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8440" y="885960"/>
            <a:ext cx="872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tialgleichung nicht bekannt, aber Datenpunkte         geme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ucht: Lösung für beliebige Zeit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7035840" y="920880"/>
          <a:ext cx="6350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5840" y="920880"/>
                    <a:ext cx="635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361800" y="1900080"/>
            <a:ext cx="5224680" cy="4062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 flipH="1">
            <a:off x="2862000" y="2557440"/>
            <a:ext cx="42840" cy="33577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6640" y="2549520"/>
            <a:ext cx="1160640" cy="32749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01960" y="2550960"/>
            <a:ext cx="2397240" cy="2503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90800" y="2549520"/>
            <a:ext cx="2695680" cy="1224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97280" y="2865600"/>
            <a:ext cx="617400" cy="307800"/>
          </a:xfrm>
          <a:custGeom>
            <a:avLst/>
            <a:gdLst/>
            <a:ahLst/>
            <a:rect l="l" t="t" r="r" b="b"/>
            <a:pathLst>
              <a:path w="389" h="194">
                <a:moveTo>
                  <a:pt x="0" y="194"/>
                </a:moveTo>
                <a:cubicBezTo>
                  <a:pt x="83" y="191"/>
                  <a:pt x="167" y="189"/>
                  <a:pt x="232" y="157"/>
                </a:cubicBezTo>
                <a:cubicBezTo>
                  <a:pt x="297" y="125"/>
                  <a:pt x="343" y="62"/>
                  <a:pt x="389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886120" y="3197160"/>
            <a:ext cx="593640" cy="198360"/>
          </a:xfrm>
          <a:custGeom>
            <a:avLst/>
            <a:gdLst/>
            <a:ahLst/>
            <a:rect l="l" t="t" r="r" b="b"/>
            <a:pathLst>
              <a:path w="374" h="125">
                <a:moveTo>
                  <a:pt x="0" y="120"/>
                </a:moveTo>
                <a:cubicBezTo>
                  <a:pt x="62" y="122"/>
                  <a:pt x="125" y="125"/>
                  <a:pt x="187" y="105"/>
                </a:cubicBezTo>
                <a:cubicBezTo>
                  <a:pt x="249" y="85"/>
                  <a:pt x="311" y="42"/>
                  <a:pt x="374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97280" y="3565440"/>
            <a:ext cx="333360" cy="42840"/>
          </a:xfrm>
          <a:custGeom>
            <a:avLst/>
            <a:gdLst/>
            <a:ahLst/>
            <a:rect l="l" t="t" r="r" b="b"/>
            <a:pathLst>
              <a:path w="210" h="27">
                <a:moveTo>
                  <a:pt x="0" y="23"/>
                </a:moveTo>
                <a:cubicBezTo>
                  <a:pt x="38" y="25"/>
                  <a:pt x="77" y="27"/>
                  <a:pt x="112" y="23"/>
                </a:cubicBezTo>
                <a:cubicBezTo>
                  <a:pt x="147" y="19"/>
                  <a:pt x="178" y="9"/>
                  <a:pt x="210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-2880" bIns="-288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474000" y="25588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de-DE" sz="1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498120" y="297648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de-DE" sz="1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de-DE" sz="1800" spc="-1" strike="noStrike" baseline="-25000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3960" y="3381480"/>
            <a:ext cx="63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de-DE" sz="18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i="1" lang="de-DE" sz="1800" spc="-1" strike="noStrike" baseline="-25000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de-DE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3680" y="5489640"/>
            <a:ext cx="392040" cy="307800"/>
          </a:xfrm>
          <a:prstGeom prst="rect">
            <a:avLst/>
          </a:prstGeom>
          <a:solidFill>
            <a:srgbClr val="1c1c1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6500880" y="4129200"/>
          <a:ext cx="1574640" cy="142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00880" y="4129200"/>
                    <a:ext cx="157464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6572160" y="2824200"/>
          <a:ext cx="127008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72160" y="2824200"/>
                    <a:ext cx="1270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5833800" y="217008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egungsgleich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94280" y="3648240"/>
            <a:ext cx="28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tonomes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5000" y="6191280"/>
            <a:ext cx="80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leitungen müssen aus den Datenpunkten berechn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02800" y="144360"/>
            <a:ext cx="37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20680" y="1433520"/>
          <a:ext cx="8718480" cy="24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1433520"/>
                    <a:ext cx="871848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68120" y="88596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 gleichmäßig verteilten Datenpunk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47080" y="42274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76880" y="4227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8200" y="3998880"/>
            <a:ext cx="3827160" cy="2690640"/>
            <a:chOff x="538200" y="3998880"/>
            <a:chExt cx="3827160" cy="2690640"/>
          </a:xfrm>
        </p:grpSpPr>
        <p:sp>
          <p:nvSpPr>
            <p:cNvPr id="349" name=""/>
            <p:cNvSpPr/>
            <p:nvPr/>
          </p:nvSpPr>
          <p:spPr>
            <a:xfrm flipV="1">
              <a:off x="1357200" y="401760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38200" y="628632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7680" y="57988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98600" y="532584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4880" y="503064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86080" y="506700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55800" y="534168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9760" y="508284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21160" y="4646520"/>
              <a:ext cx="8892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0240" y="4362120"/>
              <a:ext cx="2803680" cy="2113200"/>
            </a:xfrm>
            <a:custGeom>
              <a:avLst/>
              <a:gdLst/>
              <a:ahLst/>
              <a:rect l="l" t="t" r="r" b="b"/>
              <a:pathLst>
                <a:path w="1766" h="1331">
                  <a:moveTo>
                    <a:pt x="0" y="1331"/>
                  </a:moveTo>
                  <a:cubicBezTo>
                    <a:pt x="26" y="1264"/>
                    <a:pt x="106" y="1048"/>
                    <a:pt x="159" y="931"/>
                  </a:cubicBezTo>
                  <a:cubicBezTo>
                    <a:pt x="212" y="814"/>
                    <a:pt x="244" y="712"/>
                    <a:pt x="321" y="631"/>
                  </a:cubicBezTo>
                  <a:cubicBezTo>
                    <a:pt x="398" y="550"/>
                    <a:pt x="517" y="472"/>
                    <a:pt x="621" y="445"/>
                  </a:cubicBezTo>
                  <a:cubicBezTo>
                    <a:pt x="725" y="418"/>
                    <a:pt x="852" y="436"/>
                    <a:pt x="945" y="469"/>
                  </a:cubicBezTo>
                  <a:cubicBezTo>
                    <a:pt x="1038" y="502"/>
                    <a:pt x="1093" y="645"/>
                    <a:pt x="1179" y="646"/>
                  </a:cubicBezTo>
                  <a:cubicBezTo>
                    <a:pt x="1265" y="647"/>
                    <a:pt x="1384" y="552"/>
                    <a:pt x="1464" y="478"/>
                  </a:cubicBezTo>
                  <a:cubicBezTo>
                    <a:pt x="1544" y="404"/>
                    <a:pt x="1609" y="282"/>
                    <a:pt x="1659" y="202"/>
                  </a:cubicBezTo>
                  <a:cubicBezTo>
                    <a:pt x="1709" y="122"/>
                    <a:pt x="1744" y="42"/>
                    <a:pt x="17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59120" y="3998880"/>
              <a:ext cx="60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720" y="5340240"/>
              <a:ext cx="53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58360" y="4981320"/>
              <a:ext cx="693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37560" y="474156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-1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57640" y="5125680"/>
              <a:ext cx="0" cy="1290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00440" y="5387760"/>
              <a:ext cx="0" cy="1014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71720" y="6229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706120" y="4822560"/>
              <a:ext cx="1063800" cy="619200"/>
            </a:xfrm>
            <a:prstGeom prst="line">
              <a:avLst/>
            </a:prstGeom>
            <a:ln w="2844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2802960" y="5387760"/>
              <a:ext cx="5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257640" y="5123880"/>
              <a:ext cx="0" cy="266760"/>
            </a:xfrm>
            <a:prstGeom prst="line">
              <a:avLst/>
            </a:prstGeom>
            <a:ln w="2844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3288960" y="5333760"/>
              <a:ext cx="25092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40800" y="5702040"/>
              <a:ext cx="7711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i="1" lang="de-DE" sz="2400" spc="-1" strike="noStrike" baseline="30000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´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992840" y="3998880"/>
            <a:ext cx="3527280" cy="2671920"/>
            <a:chOff x="4992840" y="3998880"/>
            <a:chExt cx="3527280" cy="2671920"/>
          </a:xfrm>
        </p:grpSpPr>
        <p:sp>
          <p:nvSpPr>
            <p:cNvPr id="372" name=""/>
            <p:cNvSpPr/>
            <p:nvPr/>
          </p:nvSpPr>
          <p:spPr>
            <a:xfrm flipV="1">
              <a:off x="5811840" y="399888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92840" y="6267600"/>
              <a:ext cx="352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02320" y="578016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53240" y="5307120"/>
              <a:ext cx="8820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29160" y="501156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40360" y="504828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10440" y="532296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64400" y="506412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75440" y="4627440"/>
              <a:ext cx="88560" cy="88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16800" y="5084640"/>
              <a:ext cx="1393200" cy="33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78640" y="5354640"/>
              <a:ext cx="1393200" cy="33480"/>
            </a:xfrm>
            <a:prstGeom prst="line">
              <a:avLst/>
            </a:prstGeom>
            <a:ln w="2844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86320" y="4354560"/>
              <a:ext cx="2803320" cy="2112840"/>
            </a:xfrm>
            <a:custGeom>
              <a:avLst/>
              <a:gdLst/>
              <a:ahLst/>
              <a:rect l="l" t="t" r="r" b="b"/>
              <a:pathLst>
                <a:path w="1766" h="1331">
                  <a:moveTo>
                    <a:pt x="0" y="1331"/>
                  </a:moveTo>
                  <a:cubicBezTo>
                    <a:pt x="26" y="1264"/>
                    <a:pt x="106" y="1048"/>
                    <a:pt x="159" y="931"/>
                  </a:cubicBezTo>
                  <a:cubicBezTo>
                    <a:pt x="212" y="814"/>
                    <a:pt x="244" y="712"/>
                    <a:pt x="321" y="631"/>
                  </a:cubicBezTo>
                  <a:cubicBezTo>
                    <a:pt x="398" y="550"/>
                    <a:pt x="517" y="472"/>
                    <a:pt x="621" y="445"/>
                  </a:cubicBezTo>
                  <a:cubicBezTo>
                    <a:pt x="725" y="418"/>
                    <a:pt x="852" y="436"/>
                    <a:pt x="945" y="469"/>
                  </a:cubicBezTo>
                  <a:cubicBezTo>
                    <a:pt x="1038" y="502"/>
                    <a:pt x="1093" y="645"/>
                    <a:pt x="1179" y="646"/>
                  </a:cubicBezTo>
                  <a:cubicBezTo>
                    <a:pt x="1265" y="647"/>
                    <a:pt x="1384" y="552"/>
                    <a:pt x="1464" y="478"/>
                  </a:cubicBezTo>
                  <a:cubicBezTo>
                    <a:pt x="1544" y="404"/>
                    <a:pt x="1609" y="282"/>
                    <a:pt x="1659" y="202"/>
                  </a:cubicBezTo>
                  <a:cubicBezTo>
                    <a:pt x="1709" y="122"/>
                    <a:pt x="1744" y="42"/>
                    <a:pt x="176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41000" y="5343480"/>
              <a:ext cx="536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12640" y="4984560"/>
              <a:ext cx="693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+1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1840" y="474516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de-DE" sz="1800" spc="-1" strike="noStrike" baseline="-25000">
                  <a:solidFill>
                    <a:srgbClr val="000000"/>
                  </a:solidFill>
                  <a:latin typeface="Times New Roman"/>
                </a:rPr>
                <a:t>i-1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367160" y="1395360"/>
            <a:ext cx="443232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2520" y="2224080"/>
            <a:ext cx="4067280" cy="8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38520" y="2181240"/>
            <a:ext cx="4465800" cy="8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2000" y="3052800"/>
            <a:ext cx="6219720" cy="8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58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solidFill>
            <a:srgbClr val="00ba00">
              <a:alpha val="50000"/>
            </a:srgbClr>
          </a:solidFill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58120" y="144360"/>
            <a:ext cx="68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Interpolation +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49960" y="758880"/>
            <a:ext cx="726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e und/oder ungleichmäßig verteilte Datenpunk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a) Interpolation von Zwischenpun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b) Berechnung von Interpolationspolyn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)  Berechnung der Ableitung (Polynom 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ehr einfac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2440" y="244008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 1a) z.B.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lgorithmus von Nevil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siehe Sk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122640" y="3278160"/>
            <a:ext cx="2857320" cy="75240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69840" y="4505400"/>
            <a:ext cx="8962920" cy="10857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915120" y="2913120"/>
            <a:ext cx="47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ehend von Polynomen 0. Gr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2960" y="403056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tion einer Rek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42480" y="5546880"/>
            <a:ext cx="29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atenpun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2932200" y="6018120"/>
            <a:ext cx="3238560" cy="6858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035080" y="204840"/>
            <a:ext cx="6256440" cy="38782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172800" y="19692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ematis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5960" y="4210200"/>
            <a:ext cx="56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: zwei Punkte (lineare Interpo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978520" y="4039920"/>
            <a:ext cx="0" cy="26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159520" y="630864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69000" y="58212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96200" y="50529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77120" y="536400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42120" y="466884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51560" y="4384800"/>
            <a:ext cx="2803320" cy="2112840"/>
          </a:xfrm>
          <a:custGeom>
            <a:avLst/>
            <a:gdLst/>
            <a:ahLst/>
            <a:rect l="l" t="t" r="r" b="b"/>
            <a:pathLst>
              <a:path w="1766" h="1331">
                <a:moveTo>
                  <a:pt x="0" y="1331"/>
                </a:moveTo>
                <a:cubicBezTo>
                  <a:pt x="26" y="1264"/>
                  <a:pt x="106" y="1048"/>
                  <a:pt x="159" y="931"/>
                </a:cubicBezTo>
                <a:cubicBezTo>
                  <a:pt x="212" y="814"/>
                  <a:pt x="244" y="712"/>
                  <a:pt x="321" y="631"/>
                </a:cubicBezTo>
                <a:cubicBezTo>
                  <a:pt x="398" y="550"/>
                  <a:pt x="517" y="472"/>
                  <a:pt x="621" y="445"/>
                </a:cubicBezTo>
                <a:cubicBezTo>
                  <a:pt x="725" y="418"/>
                  <a:pt x="852" y="436"/>
                  <a:pt x="945" y="469"/>
                </a:cubicBezTo>
                <a:cubicBezTo>
                  <a:pt x="1038" y="502"/>
                  <a:pt x="1093" y="645"/>
                  <a:pt x="1179" y="646"/>
                </a:cubicBezTo>
                <a:cubicBezTo>
                  <a:pt x="1265" y="647"/>
                  <a:pt x="1384" y="552"/>
                  <a:pt x="1464" y="478"/>
                </a:cubicBezTo>
                <a:cubicBezTo>
                  <a:pt x="1544" y="404"/>
                  <a:pt x="1609" y="282"/>
                  <a:pt x="1659" y="202"/>
                </a:cubicBezTo>
                <a:cubicBezTo>
                  <a:pt x="1709" y="122"/>
                  <a:pt x="1744" y="42"/>
                  <a:pt x="17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380440" y="402120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66880" y="5381640"/>
            <a:ext cx="536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33400" y="46814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800" spc="-1" strike="noStrike" baseline="-25000">
                <a:solidFill>
                  <a:srgbClr val="000000"/>
                </a:solidFill>
                <a:latin typeface="Times New Roman"/>
              </a:rPr>
              <a:t>i-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34800" y="4672080"/>
          <a:ext cx="4953240" cy="17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" y="4672080"/>
                    <a:ext cx="495324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6076800" y="4932360"/>
            <a:ext cx="1882800" cy="674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86600" y="5292720"/>
            <a:ext cx="0" cy="1012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043760" y="5253120"/>
            <a:ext cx="88920" cy="88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9800" y="620244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46080" y="5538960"/>
            <a:ext cx="4132440" cy="97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58120" y="144360"/>
            <a:ext cx="68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Interpolation +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640" y="966960"/>
            <a:ext cx="78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 1b) z.B.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ewtonsche Interpolationsforme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(siehe Sk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4160" y="1535040"/>
            <a:ext cx="770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polationspolynom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durch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+1 Stützstellen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811160" y="2552760"/>
            <a:ext cx="4610160" cy="95256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665280" y="3987720"/>
            <a:ext cx="7953120" cy="10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1209600" y="5738760"/>
          <a:ext cx="6883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9600" y="5738760"/>
                    <a:ext cx="6883560" cy="9144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03360" y="211932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vidierte Differenz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05160" y="347184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tion einer Reku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07680" y="518328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uchtes Polyn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385920" y="3930480"/>
            <a:ext cx="8362800" cy="16099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3480" y="1582560"/>
            <a:ext cx="9067680" cy="1533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87480" y="728640"/>
            <a:ext cx="41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 2) Ableitung des Polynom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2885760" y="1544760"/>
            <a:ext cx="91260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769920" y="1297080"/>
            <a:ext cx="25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polationsfeh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95240" y="326088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 leicht zu berech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362720" y="5141520"/>
            <a:ext cx="866880" cy="74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69240" y="5870520"/>
            <a:ext cx="45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hler in Ableitung größer als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53880" y="360360"/>
            <a:ext cx="823284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ile </a:t>
            </a: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pendel1.d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nthält „Meßpunkte“ für ein Pendel zu de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tpunkten 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2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Lesen Sie die Datenpunkte aus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grieren Sie die Daten in Ihr Programm und lösen Si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resultierende Differentialgleichung. Bestimmen Si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 der Darstellung des Ergebnisses einen Näherungswer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r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Was können Sie über das Pendel noch auss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s file </a:t>
            </a: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pendel2.d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nthält „Meßpunkte“ für ein Pendel zu de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tpunkten 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de-DE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 Lesen Sie die Datenpunkte aus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grieren Sie die Daten in Ihr Programm und lösen Si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resultierende Differentialgleichung. Wie sehr hängt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hr Ergebnis von der Wahl des Interpolationsverfahren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? Wodurch unterscheiden sich die Pendel der beiden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gaben? Was für ein System ist durch </a:t>
            </a: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pendel2.da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chrieb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cp /home/EDV2/Unterlagen/Daten/pendel*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445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solidFill>
            <a:srgbClr val="00ba00">
              <a:alpha val="50000"/>
            </a:srgbClr>
          </a:solidFill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284560" y="311040"/>
            <a:ext cx="45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gedämpfte P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852560" y="2543040"/>
          <a:ext cx="297180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2543040"/>
                    <a:ext cx="2971800" cy="507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532800" y="120024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nearisierte Bewegungsgleich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305000" y="1695600"/>
          <a:ext cx="69087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5000" y="1695600"/>
                    <a:ext cx="6908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538560" y="25336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at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1805040" y="3016080"/>
          <a:ext cx="5359320" cy="111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5040" y="3016080"/>
                    <a:ext cx="5359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539280" y="337356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38200" y="424656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ache Dämpfung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09760" y="4259160"/>
          <a:ext cx="127008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9760" y="4259160"/>
                    <a:ext cx="12700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4809960" y="4259160"/>
          <a:ext cx="3225960" cy="50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9960" y="4259160"/>
                    <a:ext cx="32259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538200" y="51213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ütefakto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84080" y="4930920"/>
            <a:ext cx="39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gespeicherte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ergieverlust in einer Per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654280" y="5388120"/>
            <a:ext cx="3835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664000" y="5783400"/>
          <a:ext cx="350496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4000" y="5783400"/>
                    <a:ext cx="35049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"/>
          <p:cNvSpPr/>
          <p:nvPr/>
        </p:nvSpPr>
        <p:spPr>
          <a:xfrm>
            <a:off x="4311720" y="1644480"/>
            <a:ext cx="4024080" cy="8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758960" y="38880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anharmonische P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3686040" y="2130480"/>
          <a:ext cx="39880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6040" y="2130480"/>
                    <a:ext cx="3988080" cy="507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1468440" y="1206360"/>
          <a:ext cx="59943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8440" y="1206360"/>
                    <a:ext cx="5994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26160" y="210816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atz: Störungs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865760" y="2509560"/>
            <a:ext cx="98568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55000" y="29908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eine 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313320" y="2530080"/>
            <a:ext cx="80820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840200" y="3543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5842080" y="3405240"/>
          <a:ext cx="30733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2080" y="3405240"/>
                    <a:ext cx="3073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355320" y="5665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927520" y="5452920"/>
          <a:ext cx="340344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7520" y="5452920"/>
                    <a:ext cx="3403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314280" y="4357800"/>
            <a:ext cx="77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zieren, einsetzen, Koeffizientenvergleich (Glieder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dnunge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erden vernachlässig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354560" y="1212840"/>
            <a:ext cx="3593880" cy="7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835920" y="155520"/>
            <a:ext cx="74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naly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Bestimmung des Frequenzspektr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3557520" y="1557360"/>
          <a:ext cx="27939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7520" y="1557360"/>
                    <a:ext cx="2793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83840" y="248616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meistens reellwertig: dann g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86360" y="3971880"/>
            <a:ext cx="62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gedämpftes Pendel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Verbreiterung, Verschi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7800" y="322884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linearisiertes Pen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4916520" y="2503440"/>
          <a:ext cx="19810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16520" y="2503440"/>
                    <a:ext cx="1981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62320" y="3214800"/>
          <a:ext cx="5283360" cy="55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62320" y="3214800"/>
                    <a:ext cx="52833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"/>
          <p:cNvSpPr/>
          <p:nvPr/>
        </p:nvSpPr>
        <p:spPr>
          <a:xfrm>
            <a:off x="488520" y="17431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ouriertrans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084400" y="4443480"/>
          <a:ext cx="5257800" cy="96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84400" y="4443480"/>
                    <a:ext cx="52578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5" name=""/>
          <p:cNvSpPr/>
          <p:nvPr/>
        </p:nvSpPr>
        <p:spPr>
          <a:xfrm>
            <a:off x="485640" y="6083280"/>
            <a:ext cx="81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anharmonisches Pendel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Auftreten von Spitzen i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bei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3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90320" y="5394240"/>
            <a:ext cx="40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reiterung : Maß für Güt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523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solidFill>
            <a:srgbClr val="0000ff">
              <a:alpha val="2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solidFill>
            <a:srgbClr val="00ba00">
              <a:alpha val="50000"/>
            </a:srgbClr>
          </a:solidFill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1038240" y="1736640"/>
            <a:ext cx="1719000" cy="3714480"/>
            <a:chOff x="1038240" y="1736640"/>
            <a:chExt cx="1719000" cy="3714480"/>
          </a:xfrm>
        </p:grpSpPr>
        <p:sp>
          <p:nvSpPr>
            <p:cNvPr id="78" name=""/>
            <p:cNvSpPr/>
            <p:nvPr/>
          </p:nvSpPr>
          <p:spPr>
            <a:xfrm>
              <a:off x="2482560" y="1736640"/>
              <a:ext cx="274680" cy="2743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348920" y="1864440"/>
              <a:ext cx="1261440" cy="325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38240" y="4847400"/>
              <a:ext cx="603720" cy="603720"/>
            </a:xfrm>
            <a:prstGeom prst="ellipse">
              <a:avLst/>
            </a:prstGeom>
            <a:solidFill>
              <a:srgbClr val="00ba00"/>
            </a:solidFill>
            <a:ln w="28440">
              <a:solidFill>
                <a:srgbClr val="00b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330200" y="5162400"/>
            <a:ext cx="1295640" cy="270000"/>
          </a:xfrm>
          <a:custGeom>
            <a:avLst/>
            <a:gdLst/>
            <a:ahLst/>
            <a:rect l="l" t="t" r="r" b="b"/>
            <a:pathLst>
              <a:path w="816" h="170">
                <a:moveTo>
                  <a:pt x="0" y="0"/>
                </a:moveTo>
                <a:cubicBezTo>
                  <a:pt x="45" y="15"/>
                  <a:pt x="178" y="63"/>
                  <a:pt x="268" y="88"/>
                </a:cubicBezTo>
                <a:cubicBezTo>
                  <a:pt x="358" y="113"/>
                  <a:pt x="451" y="138"/>
                  <a:pt x="542" y="152"/>
                </a:cubicBezTo>
                <a:cubicBezTo>
                  <a:pt x="633" y="166"/>
                  <a:pt x="759" y="166"/>
                  <a:pt x="816" y="17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87812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22640" y="2470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49280" y="5162400"/>
            <a:ext cx="116064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453360" y="4552920"/>
          <a:ext cx="18716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53360" y="4552920"/>
                    <a:ext cx="18716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924480" y="293544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L, m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8440" y="5078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49280" y="5170320"/>
            <a:ext cx="0" cy="1179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19520" y="6251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88920" y="15552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physikalische Pend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ufstellen der Bewegungsgleic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360600" y="5925960"/>
          <a:ext cx="539928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0600" y="5925960"/>
                    <a:ext cx="5399280" cy="58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841920" y="1365120"/>
            <a:ext cx="474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sseloser Stab, Läng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unktförmige Pendelmasse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deale Aufhängung (keine Reib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6680" y="2527200"/>
            <a:ext cx="45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ur zwei Kräf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erk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raft, die vom Stab ausgeübt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2440" y="4187880"/>
            <a:ext cx="23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Bogenlän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Geschwindigk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a00"/>
                </a:solidFill>
                <a:latin typeface="Times New Roman"/>
              </a:rPr>
              <a:t>Beschleunig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440400" y="4260960"/>
          <a:ext cx="1038240" cy="35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0400" y="4260960"/>
                    <a:ext cx="10382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440400" y="4924440"/>
          <a:ext cx="192240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40400" y="4924440"/>
                    <a:ext cx="19224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039200" y="3584520"/>
            <a:ext cx="51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Stab kompensiert Teil der Schwerkra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363680" y="4154040"/>
            <a:ext cx="353880" cy="1001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0480" y="6195960"/>
            <a:ext cx="38736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963720" y="5173560"/>
            <a:ext cx="388800" cy="102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63880" y="5626080"/>
          <a:ext cx="1087200" cy="35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63880" y="5626080"/>
                    <a:ext cx="108720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984320" y="4951440"/>
          <a:ext cx="1038240" cy="353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84320" y="4951440"/>
                    <a:ext cx="10382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177720" y="540864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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ewton‘sche Bewegungsgleich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60440" y="5175360"/>
            <a:ext cx="387360" cy="150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758960" y="388800"/>
            <a:ext cx="54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anharmonische P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686040" y="2130480"/>
          <a:ext cx="398808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6040" y="2130480"/>
                    <a:ext cx="3988080" cy="5079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45" name=""/>
          <p:cNvGraphicFramePr/>
          <p:nvPr/>
        </p:nvGraphicFramePr>
        <p:xfrm>
          <a:off x="1468440" y="1206360"/>
          <a:ext cx="599436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8440" y="1206360"/>
                    <a:ext cx="59943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326160" y="210816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satz: Störungs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865760" y="2509560"/>
            <a:ext cx="98568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55000" y="29908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eine Z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313320" y="2530080"/>
            <a:ext cx="80820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840200" y="35434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842080" y="3405240"/>
          <a:ext cx="3073320" cy="78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2080" y="3405240"/>
                    <a:ext cx="307332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355320" y="56656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927520" y="5452920"/>
          <a:ext cx="3403440" cy="88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7520" y="5452920"/>
                    <a:ext cx="340344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"/>
          <p:cNvSpPr/>
          <p:nvPr/>
        </p:nvSpPr>
        <p:spPr>
          <a:xfrm>
            <a:off x="314280" y="4357800"/>
            <a:ext cx="77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fferenzieren, einsetzen, Koeffizientenvergleich (Glieder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dnunge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d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werden vernachlässig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354560" y="1212840"/>
            <a:ext cx="3593880" cy="7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901520" y="36684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nalyse durch Anpas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75760" y="115560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passung einer Fitfunktion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73600" y="17924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s sollte die Anpassung liefe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128600" y="2212920"/>
            <a:ext cx="6645600" cy="15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itparamet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bschätzung des Fehlers für jede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bschätzung der Qualität der Fit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4316400" y="1209600"/>
          <a:ext cx="28702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0" y="1209600"/>
                    <a:ext cx="2870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"/>
          <p:cNvSpPr/>
          <p:nvPr/>
        </p:nvSpPr>
        <p:spPr>
          <a:xfrm>
            <a:off x="276120" y="3981600"/>
            <a:ext cx="57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rum geht es bei einer Anpassung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ICH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35080" y="4405320"/>
            <a:ext cx="657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ßpunkte durch eine möglichst glatte Kurv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inden (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nterpo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möglichst glatte Kurve durch Datenpunkt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gen (</a:t>
            </a:r>
            <a:r>
              <a:rPr b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graphische Aufberei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0000" y="5978520"/>
            <a:ext cx="85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ide Methoden erlauben keine Aussage über physikalischen Proze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1901520" y="133200"/>
            <a:ext cx="52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nalyse durch Anpas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240" y="760320"/>
            <a:ext cx="54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ndel: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wurde gemessen, berechnet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77920" y="1319040"/>
            <a:ext cx="266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ögliche Fitkur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3490920" y="1892160"/>
          <a:ext cx="398772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0920" y="1892160"/>
                    <a:ext cx="398772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"/>
          <p:cNvGraphicFramePr/>
          <p:nvPr/>
        </p:nvGraphicFramePr>
        <p:xfrm>
          <a:off x="3490920" y="2422440"/>
          <a:ext cx="297180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0920" y="2422440"/>
                    <a:ext cx="2971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268200" y="4282920"/>
            <a:ext cx="731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 über Qualität der Fitfunktion (= Qualität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grundeliegenden Theorie) liefert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de-DE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Anpas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997000" y="1324080"/>
            <a:ext cx="4177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b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mbinationen aus 2) und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weiterungen von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490920" y="1363680"/>
          <a:ext cx="246384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0920" y="1363680"/>
                    <a:ext cx="2463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349800" y="-750960"/>
            <a:ext cx="5524200" cy="54230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96560" y="246240"/>
            <a:ext cx="33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Beispiel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rfallsproze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9680" y="1003320"/>
            <a:ext cx="258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. Versu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Polynom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3349800" y="-749160"/>
            <a:ext cx="5524200" cy="54226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27520" y="1871640"/>
            <a:ext cx="29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. Versu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Exponential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3349800" y="-755640"/>
            <a:ext cx="5524200" cy="542304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3083040" y="-754200"/>
            <a:ext cx="5790960" cy="54230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229320" y="2741760"/>
            <a:ext cx="28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ntscheid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9900"/>
                </a:solidFill>
                <a:latin typeface="Times New Roman"/>
              </a:rPr>
              <a:t>Lin-Log-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3083040" y="-752400"/>
            <a:ext cx="5790960" cy="54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00880" y="24624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Begriffsbestimmu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6040" y="922320"/>
            <a:ext cx="774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neares Anpassungsproblem : Fitfunktion ist </a:t>
            </a: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linear in den </a:t>
            </a:r>
            <a:r>
              <a:rPr b="0" i="1" lang="de-DE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7480" y="3030480"/>
            <a:ext cx="44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ichtlineares Anpassungs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34400" y="18874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2513160" y="1362240"/>
          <a:ext cx="3244680" cy="15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3160" y="1362240"/>
                    <a:ext cx="3244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"/>
          <p:cNvGraphicFramePr/>
          <p:nvPr/>
        </p:nvGraphicFramePr>
        <p:xfrm>
          <a:off x="2525760" y="3573360"/>
          <a:ext cx="4565520" cy="10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5760" y="3573360"/>
                    <a:ext cx="4565520" cy="10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6" name=""/>
          <p:cNvSpPr/>
          <p:nvPr/>
        </p:nvSpPr>
        <p:spPr>
          <a:xfrm>
            <a:off x="1634400" y="40831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.B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363680" y="1901880"/>
            <a:ext cx="4587840" cy="108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535040" y="4091040"/>
            <a:ext cx="5764320" cy="79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55520" y="122400"/>
            <a:ext cx="882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Umformulierung der Fr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Times New Roman"/>
              </a:rPr>
              <a:t>Wie wahrscheinlich treffe ich im vieldimension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Times New Roman"/>
              </a:rPr>
              <a:t>Parameterraum auf eine „gute“ Parameterkombi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6200" y="1608120"/>
            <a:ext cx="75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hr viele Messungen ergeben immer leicht unterschie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ameterkombination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Dichtevertei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ximierung von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liefert gesuchte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6470640" y="2019240"/>
          <a:ext cx="19288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0640" y="2019240"/>
                    <a:ext cx="1928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230760" y="328680"/>
            <a:ext cx="62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thematisch formuliert: finde das Minimum v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2281320" y="814320"/>
            <a:ext cx="4552920" cy="116208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590400" y="2490840"/>
            <a:ext cx="7934400" cy="11239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233280" y="200484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.h.: finde die Nullstellen der ersten Ableit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432720" y="322200"/>
            <a:ext cx="2228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nicht bekan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2933640" y="1755720"/>
            <a:ext cx="4343400" cy="9432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1340640" y="874800"/>
            <a:ext cx="3906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tze alle 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e das Anpassungs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rech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91520" y="227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... (einige mathematische Umformungen)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925560" y="777960"/>
            <a:ext cx="7524720" cy="11523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2911320" y="2003400"/>
            <a:ext cx="3552840" cy="9050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2478240" y="3040200"/>
            <a:ext cx="4419360" cy="599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614" name=""/>
          <p:cNvSpPr/>
          <p:nvPr/>
        </p:nvSpPr>
        <p:spPr>
          <a:xfrm>
            <a:off x="2178000" y="22129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27600" y="361800"/>
            <a:ext cx="58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Was sollte eine </a:t>
            </a:r>
            <a:r>
              <a:rPr b="1" i="1" lang="de-DE" sz="2800" spc="-1" strike="noStrike">
                <a:solidFill>
                  <a:srgbClr val="ff0000"/>
                </a:solidFill>
                <a:latin typeface="Symbol"/>
                <a:ea typeface="Symbol"/>
              </a:rPr>
              <a:t></a:t>
            </a:r>
            <a:r>
              <a:rPr b="1" lang="de-DE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-Anpassung liefe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17280" y="928800"/>
            <a:ext cx="66456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 Fitparameter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bschätzung des Fehlers für jede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e Abschätzung der Qualität der Fitfun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77000" y="8287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2120760" y="1830240"/>
            <a:ext cx="5286600" cy="6667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1962000" y="3049560"/>
            <a:ext cx="3943440" cy="93348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629400" y="3078000"/>
            <a:ext cx="2095560" cy="52416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6585120" y="3619440"/>
            <a:ext cx="1257120" cy="37152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7659720" y="12193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91280" y="2481120"/>
            <a:ext cx="5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2800" y="155520"/>
            <a:ext cx="80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as physikalische Pende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Linearisierung der Bewegungsgleic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98480" y="1617840"/>
          <a:ext cx="579276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1617840"/>
                    <a:ext cx="579276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24960" y="4048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092320" y="4054320"/>
          <a:ext cx="2463840" cy="5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92320" y="4054320"/>
                    <a:ext cx="2463840" cy="5083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20280" y="514188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ilt nur für kleine Auslenkung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291280" y="4043520"/>
          <a:ext cx="2887560" cy="2733480"/>
        </p:xfrm>
        <a:graphic>
          <a:graphicData uri="http://schemas.openxmlformats.org/drawingml/2006/table">
            <a:tbl>
              <a:tblPr/>
              <a:tblGrid>
                <a:gridCol w="1444680"/>
                <a:gridCol w="14428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1" lang="de-DE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i="1" lang="de-DE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7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603440" y="2130480"/>
            <a:ext cx="231300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7600" y="2109960"/>
            <a:ext cx="36367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36560" y="2940120"/>
            <a:ext cx="549756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24800" y="1951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ullstellenbestimm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257480" y="1384200"/>
            <a:ext cx="3027240" cy="20433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4888080" y="1542960"/>
            <a:ext cx="3184200" cy="157176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1066680" y="3235320"/>
            <a:ext cx="3399120" cy="211464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4"/>
          <a:stretch/>
        </p:blipFill>
        <p:spPr>
          <a:xfrm>
            <a:off x="4995720" y="3292560"/>
            <a:ext cx="3098880" cy="23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"/>
          <p:cNvGraphicFramePr/>
          <p:nvPr/>
        </p:nvGraphicFramePr>
        <p:xfrm>
          <a:off x="1019160" y="762120"/>
          <a:ext cx="3484440" cy="91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9160" y="762120"/>
                    <a:ext cx="3484440" cy="91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2916360" y="2413080"/>
            <a:ext cx="0" cy="33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94200" y="1647720"/>
            <a:ext cx="0" cy="808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5776920" y="917640"/>
          <a:ext cx="150012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6920" y="917640"/>
                    <a:ext cx="150012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"/>
          <p:cNvSpPr/>
          <p:nvPr/>
        </p:nvSpPr>
        <p:spPr>
          <a:xfrm>
            <a:off x="5356080" y="13302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           0          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658800" y="754200"/>
            <a:ext cx="3914640" cy="37591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832280" y="936720"/>
            <a:ext cx="3822840" cy="371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8" name=""/>
          <p:cNvGraphicFramePr/>
          <p:nvPr/>
        </p:nvGraphicFramePr>
        <p:xfrm>
          <a:off x="6392880" y="3332160"/>
          <a:ext cx="185580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2880" y="3332160"/>
                    <a:ext cx="185580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793080" y="26208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Sekanten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3483000" y="270000"/>
          <a:ext cx="91440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83000" y="270000"/>
                    <a:ext cx="914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5789160" y="26208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egula fal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7453440" y="270000"/>
          <a:ext cx="71100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53440" y="270000"/>
                    <a:ext cx="711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3776760" y="873000"/>
          <a:ext cx="7873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6760" y="873000"/>
                    <a:ext cx="787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"/>
          <p:cNvSpPr/>
          <p:nvPr/>
        </p:nvSpPr>
        <p:spPr>
          <a:xfrm flipV="1">
            <a:off x="1006560" y="981000"/>
            <a:ext cx="2730240" cy="315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32000" y="2658960"/>
          <a:ext cx="33012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32000" y="265896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"/>
          <p:cNvGraphicFramePr/>
          <p:nvPr/>
        </p:nvGraphicFramePr>
        <p:xfrm>
          <a:off x="1117440" y="2222640"/>
          <a:ext cx="33048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17440" y="222264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 flipV="1">
            <a:off x="1447920" y="971280"/>
            <a:ext cx="2292120" cy="170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291280" y="1157040"/>
            <a:ext cx="2450880" cy="284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6372360" y="2649600"/>
          <a:ext cx="33012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2360" y="264960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 flipV="1">
            <a:off x="5295960" y="2234880"/>
            <a:ext cx="1085760" cy="17492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6060960" y="2655720"/>
          <a:ext cx="33048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60960" y="265572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203040" y="3905280"/>
          <a:ext cx="76212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03040" y="390528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"/>
          <p:cNvSpPr/>
          <p:nvPr/>
        </p:nvSpPr>
        <p:spPr>
          <a:xfrm>
            <a:off x="2160720" y="2657520"/>
            <a:ext cx="145800" cy="146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32000" y="2655720"/>
            <a:ext cx="145800" cy="14616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10440" y="2670120"/>
            <a:ext cx="145800" cy="146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996160" y="2668680"/>
            <a:ext cx="145800" cy="145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49680" y="2652840"/>
            <a:ext cx="146160" cy="1458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676440" y="2658960"/>
          <a:ext cx="30456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6440" y="2658960"/>
                    <a:ext cx="30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"/>
          <p:cNvGraphicFramePr/>
          <p:nvPr/>
        </p:nvGraphicFramePr>
        <p:xfrm>
          <a:off x="3753000" y="2658960"/>
          <a:ext cx="33012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53000" y="265896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"/>
          <p:cNvSpPr/>
          <p:nvPr/>
        </p:nvSpPr>
        <p:spPr>
          <a:xfrm>
            <a:off x="1015920" y="272880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3716280" y="1029960"/>
            <a:ext cx="0" cy="163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7794720" y="1073160"/>
          <a:ext cx="78732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794720" y="1073160"/>
                    <a:ext cx="787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7770960" y="2658960"/>
          <a:ext cx="330120" cy="457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770960" y="265896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 flipV="1">
            <a:off x="7748640" y="1144440"/>
            <a:ext cx="0" cy="164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67640" y="2681280"/>
            <a:ext cx="146160" cy="1461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4425840" y="3859200"/>
          <a:ext cx="762120" cy="4572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425840" y="385920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4913280" y="2627280"/>
          <a:ext cx="304920" cy="457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913280" y="2627280"/>
                    <a:ext cx="304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"/>
          <p:cNvSpPr/>
          <p:nvPr/>
        </p:nvSpPr>
        <p:spPr>
          <a:xfrm>
            <a:off x="5253120" y="2697120"/>
            <a:ext cx="0" cy="133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75360" y="2649600"/>
            <a:ext cx="145800" cy="1461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38160" y="2638440"/>
            <a:ext cx="146160" cy="1461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467000" y="1698480"/>
          <a:ext cx="787320" cy="4572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467000" y="1698480"/>
                    <a:ext cx="7873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"/>
          <p:cNvSpPr/>
          <p:nvPr/>
        </p:nvSpPr>
        <p:spPr>
          <a:xfrm flipV="1">
            <a:off x="1407960" y="2090520"/>
            <a:ext cx="812880" cy="116028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90560" y="2643120"/>
            <a:ext cx="146160" cy="146160"/>
          </a:xfrm>
          <a:prstGeom prst="ellipse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35"/>
          <a:stretch/>
        </p:blipFill>
        <p:spPr>
          <a:xfrm>
            <a:off x="2409840" y="747720"/>
            <a:ext cx="440856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33240" y="1284120"/>
            <a:ext cx="4216680" cy="37404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4541760" y="1247760"/>
            <a:ext cx="4022640" cy="362412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455760" y="27000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ewton-Raphson-Verfah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4376880" y="274680"/>
          <a:ext cx="6346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76880" y="274680"/>
                    <a:ext cx="634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6" name=""/>
          <p:cNvGraphicFramePr/>
          <p:nvPr/>
        </p:nvGraphicFramePr>
        <p:xfrm>
          <a:off x="501480" y="725400"/>
          <a:ext cx="810288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" y="725400"/>
                    <a:ext cx="8102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8" name=""/>
          <p:cNvGraphicFramePr/>
          <p:nvPr/>
        </p:nvGraphicFramePr>
        <p:xfrm>
          <a:off x="4143240" y="1771560"/>
          <a:ext cx="7621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3240" y="177156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 flipV="1">
            <a:off x="3220920" y="1300320"/>
            <a:ext cx="1246320" cy="24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3425760" y="3216240"/>
          <a:ext cx="3301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5760" y="3216240"/>
                    <a:ext cx="330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2903400" y="2793960"/>
          <a:ext cx="3304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3400" y="2793960"/>
                    <a:ext cx="330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 flipV="1">
            <a:off x="2365200" y="2390760"/>
            <a:ext cx="1695600" cy="17352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6680160" y="3462480"/>
          <a:ext cx="13716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80160" y="3462480"/>
                    <a:ext cx="1371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8" name=""/>
          <p:cNvGraphicFramePr/>
          <p:nvPr/>
        </p:nvGraphicFramePr>
        <p:xfrm>
          <a:off x="1415880" y="4432320"/>
          <a:ext cx="63504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0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15880" y="4432320"/>
                    <a:ext cx="635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0" name=""/>
          <p:cNvSpPr/>
          <p:nvPr/>
        </p:nvSpPr>
        <p:spPr>
          <a:xfrm>
            <a:off x="2099160" y="4408560"/>
            <a:ext cx="557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ur dann, wen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´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 analytisch bekannt 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63680" y="828720"/>
            <a:ext cx="141912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65640" y="3227400"/>
            <a:ext cx="145800" cy="1461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22640" y="3225960"/>
            <a:ext cx="146160" cy="14580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286240" y="2197080"/>
            <a:ext cx="31496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254560" y="638280"/>
            <a:ext cx="3511440" cy="10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4083120" y="3197160"/>
          <a:ext cx="304560" cy="457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83120" y="3197160"/>
                    <a:ext cx="30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 flipV="1">
            <a:off x="4048200" y="2103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967200" y="3219480"/>
            <a:ext cx="146160" cy="14616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4720" y="270000"/>
            <a:ext cx="64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ullstellen von Polynomen: Division durch (</a:t>
            </a: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de-DE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75040" y="81288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gangswe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436120" y="812880"/>
            <a:ext cx="64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che einer Nullst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bdividieren der Nullstelle (num. Fehlerquell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feinerung der Null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679320" y="2305080"/>
          <a:ext cx="24400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2305080"/>
                    <a:ext cx="24400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679320" y="3343320"/>
          <a:ext cx="21099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9320" y="3343320"/>
                    <a:ext cx="2109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4721400" y="2909880"/>
          <a:ext cx="137304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1400" y="2909880"/>
                    <a:ext cx="13730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4721400" y="4194000"/>
          <a:ext cx="2415960" cy="127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1400" y="4194000"/>
                    <a:ext cx="24159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"/>
          <p:cNvSpPr/>
          <p:nvPr/>
        </p:nvSpPr>
        <p:spPr>
          <a:xfrm>
            <a:off x="5154480" y="3747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41880" y="5487840"/>
            <a:ext cx="0" cy="58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29280" y="3932280"/>
            <a:ext cx="2450880" cy="1843200"/>
          </a:xfrm>
          <a:custGeom>
            <a:avLst/>
            <a:gdLst/>
            <a:ahLst/>
            <a:rect l="l" t="t" r="r" b="b"/>
            <a:pathLst>
              <a:path w="1544" h="1161">
                <a:moveTo>
                  <a:pt x="8" y="1161"/>
                </a:moveTo>
                <a:lnTo>
                  <a:pt x="1544" y="1161"/>
                </a:lnTo>
                <a:lnTo>
                  <a:pt x="15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4" name=""/>
          <p:cNvGraphicFramePr/>
          <p:nvPr/>
        </p:nvGraphicFramePr>
        <p:xfrm>
          <a:off x="4721400" y="2060640"/>
          <a:ext cx="9144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1400" y="2060640"/>
                    <a:ext cx="914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6" name=""/>
          <p:cNvGraphicFramePr/>
          <p:nvPr/>
        </p:nvGraphicFramePr>
        <p:xfrm>
          <a:off x="4721400" y="6164280"/>
          <a:ext cx="9396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21400" y="6164280"/>
                    <a:ext cx="939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5157720" y="251928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871440" y="378000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j=n-1, ... ,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189000" y="260280"/>
            <a:ext cx="366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Sinn von Bibliothek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61960" y="903240"/>
            <a:ext cx="814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chive, in denen die Programme in extrahierbarer Form abgespeichert sind (Inhalt, Zeitstempel, Zugriffsrechte, Eigentümer, ... sind gespeicher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önnen „static“ (Binärcode wird beim Linken zum Hauptprogramm kopiert) oder „shared“ (Binärcode wird vor dem Ausführen zum Hauptprogramm kopiert) s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ammlung oftmals verwendeter Routinen (z.B. alle Mathematikgrundfunktionen, Berechnung wichtiger Funktio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ptimierte Lösungen von Standardproblemen (z.B. Probleme der linearen Algebra, Anpassungsprobleme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90800" y="260280"/>
            <a:ext cx="85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Einbindung von Bibliotheksfunktionen in Program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61960" y="90324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 den selbstgeschriebenen Programmteilen ändert sich nichts! Aufruf der Routinen, wie von der Sprache vorges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193680" y="26028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Verknüpfung mit den Programm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1960" y="90324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ilieren mit Linkerdirektiven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-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r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–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77 –Ldir file.f –lmy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81160" y="1709640"/>
            <a:ext cx="1378080" cy="8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75960" y="242892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gweiser“ zur Biblioth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738400" y="1709280"/>
            <a:ext cx="71460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258880" y="218916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me der Biblioth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hne lib und 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35035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ispiel (siehe ex-5.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328040" y="401940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77 –L/usr/lib/fortran cubic2.f –lcernlib1 –lcernli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rot="5400000">
            <a:off x="6438600" y="3197160"/>
            <a:ext cx="185400" cy="2583000"/>
          </a:xfrm>
          <a:custGeom>
            <a:avLst/>
            <a:gdLst>
              <a:gd name="textAreaLeft" fmla="*/ 0 w 185400"/>
              <a:gd name="textAreaRight" fmla="*/ 66960 w 185400"/>
              <a:gd name="textAreaTop" fmla="*/ 67320 h 2583000"/>
              <a:gd name="textAreaBottom" fmla="*/ 2515680 h 258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64880" y="4627440"/>
            <a:ext cx="242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Times New Roman"/>
              </a:rPr>
              <a:t>Reihenfolge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3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074600" y="0"/>
            <a:ext cx="594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call dfunft(sub,1,100,2,1,2,x,y,sy,a,al,au,1,1.d-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+                100,0,mfr,iafr,phi,dphi,cov,std,w,n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subroutine sub(k,x,n,a,f,df,mode,n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f = a(1)*dsin(a(2)*x(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f(1) = dsin(a(2)*x(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AT" sz="1800" spc="-1" strike="noStrike">
                <a:solidFill>
                  <a:srgbClr val="000000"/>
                </a:solidFill>
                <a:latin typeface="Times New Roman"/>
              </a:rPr>
              <a:t>df(2) = a(1)*a(2)*dcos(a(2)*x(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431720" y="2262240"/>
            <a:ext cx="54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77 fit.f –lmathlib –lkernlib –llapack -l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424480" y="1162080"/>
            <a:ext cx="160200" cy="888840"/>
          </a:xfrm>
          <a:custGeom>
            <a:avLst/>
            <a:gdLst>
              <a:gd name="textAreaLeft" fmla="*/ 0 w 160200"/>
              <a:gd name="textAreaRight" fmla="*/ 57960 w 160200"/>
              <a:gd name="textAreaTop" fmla="*/ 23040 h 888840"/>
              <a:gd name="textAreaBottom" fmla="*/ 865800 h 88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5692680" y="1407960"/>
          <a:ext cx="229248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407960"/>
                    <a:ext cx="22924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622520" y="-1015920"/>
            <a:ext cx="5626080" cy="572760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1619280" y="-1009800"/>
            <a:ext cx="562608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90080" y="260280"/>
            <a:ext cx="813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Erzeugung von statischen Bibliotheken unter Lin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61960" y="903240"/>
            <a:ext cx="814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ilieren aller Funktionen, die Teil der Bibliothek werden sollen mit der Compilerdirektive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–c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77 –c file1.f file2.f ... file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.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nüpfung der Objectfiles durch den Befehl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r libmylib.a file1.o file2.o ... file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zeugung eines Inhaltsverzeichnisses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anlib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nlib libmylib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listung des Inhalts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r t, nm -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r t (nm -s) libmylib.a | grep fil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65760" y="155520"/>
            <a:ext cx="47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lternative Herleit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Energieerhal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36400" y="1542960"/>
          <a:ext cx="6174000" cy="21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542960"/>
                    <a:ext cx="617400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5650920" y="148284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servatives Syste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040000" y="1738440"/>
            <a:ext cx="63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14200" y="38466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monisches Potentia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156360" y="3556080"/>
            <a:ext cx="20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308240" y="4487760"/>
            <a:ext cx="6313320" cy="2467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90440" y="652788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68680" y="4308120"/>
            <a:ext cx="0" cy="235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37640" y="634032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72280" y="40006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43400" y="644688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0800" y="6446880"/>
            <a:ext cx="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65200" y="65199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47800" y="6519960"/>
            <a:ext cx="27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55920" y="432288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de-DE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08600" y="4962600"/>
            <a:ext cx="10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1-cos</a:t>
            </a:r>
            <a:r>
              <a:rPr b="0" i="1" lang="de-DE" sz="24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0200" y="2075040"/>
            <a:ext cx="209880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02080" y="2022480"/>
            <a:ext cx="36050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9040" y="2936880"/>
            <a:ext cx="613404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190440" y="260280"/>
            <a:ext cx="76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Times New Roman"/>
              </a:rPr>
              <a:t>Erzeugung von shared Bibliotheken unter Linu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61960" y="903240"/>
            <a:ext cx="8140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ilieren aller Funktionen, die Teil der Bibliothek werden sollen, mit der Compilerdirektive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–c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cc –c file1.c file2.c ... file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zeugung eines shared objects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gcc –shared –o lib***.s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gcc –shared –o libfile1.so libfile1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nüpfung der Objectfiles durch den Befehl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r libmylib.a libfile1.so libfile2.so ... libfile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.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zeugung eines Inhaltsverzeichnisses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anlib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nlib libmylib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fad zur Bibliothek muß in Umgebungsvariable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LD_LIBRARY_PAT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eingetragen se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768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solidFill>
            <a:srgbClr val="00ba00">
              <a:alpha val="20000"/>
            </a:srgbClr>
          </a:solidFill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solidFill>
            <a:srgbClr val="00ba00">
              <a:alpha val="50000"/>
            </a:srgbClr>
          </a:solidFill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1947600" y="200160"/>
            <a:ext cx="51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(deterministisches) Cha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348640" y="930240"/>
            <a:ext cx="43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nn Chaos deterministisch se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04800" y="1566720"/>
            <a:ext cx="67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Chaos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starke Abhängigkeit von Anfangsbedin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308400" y="2259000"/>
            <a:ext cx="2162160" cy="1625760"/>
          </a:xfrm>
          <a:custGeom>
            <a:avLst/>
            <a:gdLst/>
            <a:ahLst/>
            <a:rect l="l" t="t" r="r" b="b"/>
            <a:pathLst>
              <a:path w="1362" h="1024">
                <a:moveTo>
                  <a:pt x="0" y="1024"/>
                </a:moveTo>
                <a:cubicBezTo>
                  <a:pt x="253" y="975"/>
                  <a:pt x="506" y="926"/>
                  <a:pt x="703" y="815"/>
                </a:cubicBezTo>
                <a:cubicBezTo>
                  <a:pt x="900" y="704"/>
                  <a:pt x="1072" y="495"/>
                  <a:pt x="1182" y="359"/>
                </a:cubicBezTo>
                <a:cubicBezTo>
                  <a:pt x="1292" y="223"/>
                  <a:pt x="1327" y="111"/>
                  <a:pt x="136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33600" y="3740040"/>
            <a:ext cx="2802240" cy="181080"/>
          </a:xfrm>
          <a:custGeom>
            <a:avLst/>
            <a:gdLst/>
            <a:ahLst/>
            <a:rect l="l" t="t" r="r" b="b"/>
            <a:pathLst>
              <a:path w="1765" h="114">
                <a:moveTo>
                  <a:pt x="0" y="114"/>
                </a:moveTo>
                <a:cubicBezTo>
                  <a:pt x="93" y="98"/>
                  <a:pt x="393" y="34"/>
                  <a:pt x="561" y="17"/>
                </a:cubicBezTo>
                <a:cubicBezTo>
                  <a:pt x="729" y="0"/>
                  <a:pt x="858" y="4"/>
                  <a:pt x="1010" y="9"/>
                </a:cubicBezTo>
                <a:cubicBezTo>
                  <a:pt x="1162" y="14"/>
                  <a:pt x="1347" y="32"/>
                  <a:pt x="1473" y="47"/>
                </a:cubicBezTo>
                <a:cubicBezTo>
                  <a:pt x="1599" y="62"/>
                  <a:pt x="1704" y="88"/>
                  <a:pt x="1765" y="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2665440" y="3114720"/>
          <a:ext cx="7873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3114720"/>
                    <a:ext cx="7873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7" name=""/>
          <p:cNvGraphicFramePr/>
          <p:nvPr/>
        </p:nvGraphicFramePr>
        <p:xfrm>
          <a:off x="2249640" y="4138560"/>
          <a:ext cx="203184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49640" y="4138560"/>
                    <a:ext cx="20318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2987640" y="3564000"/>
            <a:ext cx="27324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3143160" y="3968640"/>
            <a:ext cx="16524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97240" y="2205000"/>
            <a:ext cx="30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trajekto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484960" y="2340000"/>
            <a:ext cx="593640" cy="1471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5843520" y="2744640"/>
          <a:ext cx="18288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3520" y="2744640"/>
                    <a:ext cx="1828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 flipV="1">
            <a:off x="7183440" y="3098520"/>
            <a:ext cx="14112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485760" y="3686040"/>
            <a:ext cx="19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yapunovex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97240" y="4973760"/>
            <a:ext cx="502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gnaturen von Chaos sichtbar 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trajek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spek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incaré-Schnitten durch 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351160" y="3753000"/>
            <a:ext cx="914400" cy="142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2008080" y="3505320"/>
          <a:ext cx="3556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08080" y="3505320"/>
                    <a:ext cx="355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1" name=""/>
          <p:cNvSpPr/>
          <p:nvPr/>
        </p:nvSpPr>
        <p:spPr>
          <a:xfrm>
            <a:off x="3279600" y="383076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90760" y="3879720"/>
            <a:ext cx="88920" cy="88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7 C 0.00313 -0.00093 0.00677 -0.00116 0.01875 -0.00463 C 0.03073 -0.00811 0.05764 -0.01598 0.07188 -0.0213 C 0.08611 -0.02662 0.09236 -0.02894 0.10365 -0.03588 C 0.11493 -0.04283 0.12709 -0.0507 0.13906 -0.06297 C 0.15104 -0.07524 0.16459 -0.09329 0.17604 -0.10949 C 0.1875 -0.1257 0.19983 -0.14422 0.20834 -0.16019 C 0.21684 -0.17616 0.22257 -0.19306 0.22709 -0.20602 C 0.2316 -0.21899 0.23368 -0.23195 0.23542 -0.23866 E">
                                      <p:cBhvr>
                                        <p:cTn id="1249" dur="2000" fill="hold"/>
                                        <p:tgtEl>
                                          <p:spTgt spid="8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C 0.00312 -0.00092 0.00781 -0.00185 0.01875 -0.00463 C 0.02968 -0.00741 0.05173 -0.01412 0.06545 -0.01736 C 0.07916 -0.0206 0.08993 -0.02222 0.10139 -0.02361 C 0.11284 -0.025 0.12205 -0.02616 0.13472 -0.02639 C 0.14739 -0.02662 0.16389 -0.02569 0.17795 -0.025 C 0.19201 -0.0243 0.20573 -0.02315 0.21962 -0.02153 C 0.2335 -0.01991 0.24652 -0.01828 0.26128 -0.01528 C 0.27604 -0.01227 0.29843 -0.00578 0.30816 -0.00347 E">
                                      <p:cBhvr>
                                        <p:cTn id="1251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272520" y="4618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ngetriebenes und gedämpftes Pen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1916280" y="1033560"/>
          <a:ext cx="480060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6280" y="1033560"/>
                    <a:ext cx="480060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"/>
          <p:cNvGraphicFramePr/>
          <p:nvPr/>
        </p:nvGraphicFramePr>
        <p:xfrm>
          <a:off x="287280" y="4871880"/>
          <a:ext cx="8534520" cy="147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280" y="4871880"/>
                    <a:ext cx="853452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272520" y="2462040"/>
            <a:ext cx="762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ft: Transformation auf „Eigenzeit“ 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in Einheiten von 1/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1908000" y="3029040"/>
          <a:ext cx="4470480" cy="96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029040"/>
                    <a:ext cx="447048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273600" y="41688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struktion eines autonomen Sys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7360" y="1536840"/>
            <a:ext cx="49068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662040" y="1882800"/>
            <a:ext cx="431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incaré-Schnitt: es werden die Durchstoßpunkte der Trajektorie durch eine vorgegebene Ebene eingezeich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528920" y="147600"/>
          <a:ext cx="152388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47600"/>
                    <a:ext cx="15238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"/>
          <p:cNvSpPr/>
          <p:nvPr/>
        </p:nvSpPr>
        <p:spPr>
          <a:xfrm>
            <a:off x="3214440" y="590400"/>
            <a:ext cx="50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finiert Trajektorie in 3D-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5002200" y="1063800"/>
            <a:ext cx="3321000" cy="34668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5017680" y="4038480"/>
            <a:ext cx="311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7810200" y="3240000"/>
            <a:ext cx="311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605200" y="1139760"/>
            <a:ext cx="31176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62040" y="3973680"/>
            <a:ext cx="84819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ösen Sie das DG-System und stellen Sie die Ergebnisse 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ühren Sie Frequenzanalysen Ihrer Ergebnisse durch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chnen Sie Phasenraumtrajektorien und Poincaré-Schni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mod(2</a:t>
            </a:r>
            <a:r>
              <a:rPr b="0" i="1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=0) für unterschiedliche Parameterkombina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stimmen Sie den Lyapunov-Exponenten für ein chao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-311040" y="77760"/>
            <a:ext cx="7756560" cy="682308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4094280" y="260280"/>
            <a:ext cx="5049720" cy="29592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 flipV="1">
            <a:off x="3774960" y="2786040"/>
            <a:ext cx="1027080" cy="228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4700520" y="2800080"/>
            <a:ext cx="4011840" cy="22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403280" y="1871640"/>
          <a:ext cx="637704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71640"/>
                    <a:ext cx="637704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44240" y="328788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kehrpunk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720880" y="3156120"/>
          <a:ext cx="472464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20880" y="3156120"/>
                    <a:ext cx="4724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60240" y="4334040"/>
          <a:ext cx="7035840" cy="93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4334040"/>
                    <a:ext cx="7035840" cy="93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flipV="1">
            <a:off x="6567480" y="4935240"/>
            <a:ext cx="749160" cy="56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257880" y="5407200"/>
          <a:ext cx="226080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57880" y="5407200"/>
                    <a:ext cx="22608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171840" y="5862600"/>
            <a:ext cx="239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... Anfangsbeding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65760" y="155520"/>
            <a:ext cx="476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Alternative Herleitu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Energieerhal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4000" y="1838160"/>
            <a:ext cx="3346560" cy="10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29160" y="3108240"/>
            <a:ext cx="3346560" cy="103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798640" y="15552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er Phasenra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11240" y="1857240"/>
          <a:ext cx="533412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1240" y="1857240"/>
                    <a:ext cx="5334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840" y="914400"/>
            <a:ext cx="77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rstellung der Energie als Funktion von (verallgemeiner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ts- und Impulskoordin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05040" y="3297240"/>
          <a:ext cx="538488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05040" y="3297240"/>
                    <a:ext cx="5384880" cy="863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516600" y="260352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ynamik des Systems beschrieben durch Hamilton-Gleich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" y="4422600"/>
            <a:ext cx="78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nservatives System“: keine explizite Zeitabhängigkeit in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71440" y="5102280"/>
          <a:ext cx="6654960" cy="13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1440" y="5102280"/>
                    <a:ext cx="665496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438880" y="5961240"/>
            <a:ext cx="2411280" cy="463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70160" y="5905440"/>
            <a:ext cx="5853240" cy="6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798640" y="15552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ff"/>
                </a:solidFill>
                <a:latin typeface="Times New Roman"/>
              </a:rPr>
              <a:t>Der Phasenra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306520" y="1467000"/>
          <a:ext cx="44960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1467000"/>
                    <a:ext cx="44960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2239920" y="2425680"/>
          <a:ext cx="5334120" cy="96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9920" y="2425680"/>
                    <a:ext cx="53341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29840" y="925560"/>
            <a:ext cx="60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 der linearisierten Pendelbeweg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1320" y="26398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lipse 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300480" y="343656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68480" y="4992840"/>
            <a:ext cx="44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01640" y="3894120"/>
            <a:ext cx="3373560" cy="2197080"/>
          </a:xfrm>
          <a:prstGeom prst="ellipse">
            <a:avLst/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381120" y="316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59760" y="49514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40040" y="4114800"/>
            <a:ext cx="2698560" cy="1755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289400"/>
            <a:ext cx="2159280" cy="14050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08560" y="3710160"/>
            <a:ext cx="2622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llipsen 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0" lang="de-DE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de-DE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de-DE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de-DE" sz="2400" spc="-1" strike="noStrike">
                <a:solidFill>
                  <a:srgbClr val="00ba00"/>
                </a:solidFill>
                <a:latin typeface="Times New Roman"/>
              </a:rPr>
              <a:t>E</a:t>
            </a:r>
            <a:r>
              <a:rPr b="0" lang="de-DE" sz="2400" spc="-1" strike="noStrike" baseline="-25000">
                <a:solidFill>
                  <a:srgbClr val="00ba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 co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0240" y="60246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rkung“: Fläch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342200" y="5884920"/>
          <a:ext cx="149868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42200" y="5884920"/>
                    <a:ext cx="14986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84080" y="4227480"/>
            <a:ext cx="712800" cy="2232000"/>
          </a:xfrm>
          <a:custGeom>
            <a:avLst/>
            <a:gdLst/>
            <a:ahLst/>
            <a:rect l="l" t="t" r="r" b="b"/>
            <a:pathLst>
              <a:path w="449" h="1406">
                <a:moveTo>
                  <a:pt x="449" y="1406"/>
                </a:moveTo>
                <a:lnTo>
                  <a:pt x="0" y="140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35880" y="411948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tat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62360" y="3978360"/>
            <a:ext cx="2293920" cy="912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terministis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73920" y="4433760"/>
            <a:ext cx="52236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78160" y="250920"/>
            <a:ext cx="2671920" cy="723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Das Pe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04800" y="1182600"/>
            <a:ext cx="6139080" cy="912960"/>
            <a:chOff x="1504800" y="1182600"/>
            <a:chExt cx="6139080" cy="912960"/>
          </a:xfrm>
        </p:grpSpPr>
        <p:sp>
          <p:nvSpPr>
            <p:cNvPr id="193" name=""/>
            <p:cNvSpPr/>
            <p:nvPr/>
          </p:nvSpPr>
          <p:spPr>
            <a:xfrm>
              <a:off x="150480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Lösung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Bewegungsgleich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62360" y="1182600"/>
              <a:ext cx="2981520" cy="912960"/>
            </a:xfrm>
            <a:prstGeom prst="roundRect">
              <a:avLst>
                <a:gd name="adj" fmla="val 16667"/>
              </a:avLst>
            </a:prstGeom>
            <a:solidFill>
              <a:srgbClr val="00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Analyse 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Pendelbewegu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06520" y="2208240"/>
            <a:ext cx="397980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inführung: analytische Ls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2951280"/>
            <a:ext cx="2435400" cy="91260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1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978360"/>
            <a:ext cx="2435400" cy="91260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G ≥ 2. Ord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5240" y="3587760"/>
            <a:ext cx="17334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fferenz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262160" y="33462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03360" y="5175360"/>
            <a:ext cx="6140520" cy="687240"/>
          </a:xfrm>
          <a:prstGeom prst="roundRect">
            <a:avLst>
              <a:gd name="adj" fmla="val 16667"/>
            </a:avLst>
          </a:prstGeom>
          <a:solidFill>
            <a:srgbClr val="0000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rstellung der Ergebn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03360" y="6149880"/>
            <a:ext cx="16383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rp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45200" y="6149880"/>
            <a:ext cx="239868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passungsprobl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62360" y="2208240"/>
            <a:ext cx="1758960" cy="628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asenra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62360" y="3092400"/>
            <a:ext cx="2435400" cy="63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z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35880" y="3106800"/>
            <a:ext cx="143820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35920" y="3422520"/>
            <a:ext cx="368280" cy="0"/>
          </a:xfrm>
          <a:prstGeom prst="line">
            <a:avLst/>
          </a:prstGeom>
          <a:ln w="9360">
            <a:solidFill>
              <a:srgbClr val="00ba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62160" y="4262400"/>
            <a:ext cx="7128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5240" y="6458040"/>
            <a:ext cx="210204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73440" y="5876640"/>
            <a:ext cx="0" cy="5698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37320" y="2247840"/>
            <a:ext cx="1438560" cy="615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b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Nullst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53360" y="2865600"/>
            <a:ext cx="0" cy="231480"/>
          </a:xfrm>
          <a:prstGeom prst="line">
            <a:avLst/>
          </a:prstGeom>
          <a:ln w="9360">
            <a:solidFill>
              <a:srgbClr val="00ba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3:51:00Z</dcterms:created>
  <dc:creator>Christoph Lemell</dc:creator>
  <dc:description/>
  <dc:language>en-US</dc:language>
  <cp:lastModifiedBy>Christoph Lemell</cp:lastModifiedBy>
  <dcterms:modified xsi:type="dcterms:W3CDTF">2005-06-08T11:57:27Z</dcterms:modified>
  <cp:revision>177</cp:revision>
  <dc:subject/>
  <dc:title>Das Pendel: Simulation und Analyse</dc:title>
</cp:coreProperties>
</file>